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1BA-CB28-4D0E-9C06-7E5D6ABB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DCE-1574-40FF-88DD-F3EB9866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ED9-7685-49AD-8321-6A740401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5FA-63A5-4C19-A9D8-682406D9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B01-E80D-43EA-AFC3-6B7A4302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868-B4E4-4014-9E05-8B370051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594-675B-4B15-BA76-A141B33A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153-1485-49E9-B617-B56342F8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E49-9FFB-4E31-B23D-9FB4695F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CD4-8F9D-4493-8B73-6B5555A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1E7-59FF-4027-8822-6BBB0AA8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7A2-87AC-48C6-BD6D-10A02B09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25E8-8477-46EF-875D-06D58931E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UDIO DIGITA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qué consiste el audio digit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representar en forma de números la curva de variación de presión del so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8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umerización de una o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OJO: las muestras (o “samples”) se toman a intervalo regular de tiempo, es decir a una determinad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Ésta se l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recuencia de muestreo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y se representa por 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16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 se quiere tener mayor resolución (o, en la regla del dibujo, más decimales), es posible cambiar la regla por una con má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3573360"/>
            <a:ext cx="29052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8320" y="51004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1577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44640" y="50166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223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6108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3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4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4400" y="5338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6240" y="526248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90520" y="5195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93760" y="5126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0520" y="5027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90520" y="4954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90520" y="4883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47545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90520" y="4811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9878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49320" y="48117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47880" y="46702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0520" y="5062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9928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49165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93760" y="48499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97000" y="478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90520" y="4691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0520" y="4618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4546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1560" y="44179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0520" y="4475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120" y="53308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44640" y="44830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47880" y="43340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90520" y="47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46562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5799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93760" y="451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97000" y="44434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4357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4284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87280" y="4213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8320" y="408456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4141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55800" y="41418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44640" y="4000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4392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4400" y="4322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6240" y="42465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90520" y="4179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93760" y="411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4017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3944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8736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38320" y="37450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3801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49320" y="380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44640" y="36608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87280" y="4052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4400" y="3983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6240" y="39067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90520" y="384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93760" y="3770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4292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 resolución, o cantidad de números de la regla, es definida por la 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cantidad de bit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l audio digital, cada número es representado en base 2, es decir con sólo dos dígitos: “0” y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se hace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……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1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….      </a:t>
            </a:r>
            <a:r>
              <a:rPr b="0" lang="es-CL" sz="2800" spc="-1" strike="noStrike" baseline="30000">
                <a:solidFill>
                  <a:srgbClr val="009999"/>
                </a:solidFill>
                <a:latin typeface="Arial"/>
              </a:rPr>
              <a:t>8       4         2       1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6 = 2+4 =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        1        1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ste caso, n es la cantidad de bits. Para representar números mayores, se requiere un número de bits mayor. De esta forma, se puede representar cualquier número como una serie de “1” y “0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8000" y="1916280"/>
            <a:ext cx="552240" cy="3673440"/>
            <a:chOff x="108000" y="1916280"/>
            <a:chExt cx="552240" cy="3673440"/>
          </a:xfrm>
        </p:grpSpPr>
        <p:sp>
          <p:nvSpPr>
            <p:cNvPr id="328" name=""/>
            <p:cNvSpPr/>
            <p:nvPr/>
          </p:nvSpPr>
          <p:spPr>
            <a:xfrm>
              <a:off x="438120" y="53308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280" y="1916280"/>
              <a:ext cx="476280" cy="3673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520" y="5195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520" y="50626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520" y="493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520" y="469908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520" y="480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800" y="53262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280" y="5229360"/>
              <a:ext cx="30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2280" y="480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000" y="454500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520" y="525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1480" y="51325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120" y="49942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200" y="487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7680" y="4745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1200" y="4565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432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200" y="43020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640" y="40687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417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5920" y="417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680" y="39146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200" y="462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520" y="4502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600" y="43624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7680" y="424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360" y="4114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200" y="3952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1200" y="38196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200" y="36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640" y="345456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200" y="3559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000" y="357336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680" y="330192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200" y="4016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520" y="38894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4600" y="37497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7680" y="3629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2360" y="3500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6520" y="33447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6520" y="3211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520" y="3081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5520" y="2847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6520" y="2951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951280"/>
              <a:ext cx="50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8000" y="26938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6520" y="3408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480" y="32814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" y="3143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200" y="30211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680" y="2894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520" y="2725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6520" y="259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6520" y="246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520" y="22287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520" y="23320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920" y="23320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8000" y="2075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520" y="27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1480" y="26622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8120" y="252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200" y="24019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7680" y="22748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148360" y="4508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3284640"/>
            <a:ext cx="7345440" cy="19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úmero de B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la música grabada en un CD, la frecuencia de muestreo (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L" sz="20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) es 44.1 KHz  y el número de bits es 16. Esto quiere decir que “la regla” en un CD tiene 65536 valores posibles, y se toman muestras 44.100 veces por segundo, es decir, cada 0.00002 segu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3716280"/>
            <a:ext cx="719280" cy="20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4581360"/>
            <a:ext cx="43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2.7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716280"/>
            <a:ext cx="5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65.5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537372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428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5805360"/>
            <a:ext cx="28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5661000"/>
            <a:ext cx="64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4.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7964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6.3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1128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5.8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80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28.26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0364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35.97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6400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63.3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573408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7.5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00720" y="5805360"/>
            <a:ext cx="43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6381720"/>
            <a:ext cx="251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.00002 seg entre cada mue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Frecuencia de muestreo y Bits en un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e esta forma, es posible registrar en un CD la forma de onda de un álbum completo, guardando cada número como una serie de dieciséis “0”s y “1”s con los que se representa las variaciones de presión del sonido grabado. En el CD, los “1” y “0” son marcados como “baches” en la superficie de alumnio del disco. El disco va siendo leído en forma de espiral, con un número siendo representado por cada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El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155000" y="114480"/>
            <a:ext cx="1401480" cy="1331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733920" cy="1257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90476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3857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10T21:04:15Z</dcterms:modified>
  <cp:revision>36</cp:revision>
  <dc:subject/>
  <dc:title>Taller de Ciencias en la Música </dc:title>
</cp:coreProperties>
</file>